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  <p:sldId id="289" r:id="rId43"/>
    <p:sldId id="290" r:id="rId44"/>
    <p:sldId id="291" r:id="rId45"/>
    <p:sldId id="292" r:id="rId46"/>
    <p:sldId id="293" r:id="rId47"/>
    <p:sldId id="294" r:id="rId48"/>
    <p:sldId id="295" r:id="rId49"/>
    <p:sldId id="296" r:id="rId50"/>
    <p:sldId id="297" r:id="rId51"/>
    <p:sldId id="298" r:id="rId52"/>
    <p:sldId id="299" r:id="rId53"/>
    <p:sldId id="300" r:id="rId54"/>
    <p:sldId id="301" r:id="rId55"/>
    <p:sldId id="302" r:id="rId56"/>
    <p:sldId id="303" r:id="rId57"/>
    <p:sldId id="304" r:id="rId58"/>
    <p:sldId id="305" r:id="rId59"/>
    <p:sldId id="306" r:id="rId60"/>
    <p:sldId id="307" r:id="rId61"/>
    <p:sldId id="308" r:id="rId62"/>
    <p:sldId id="309" r:id="rId63"/>
    <p:sldId id="310" r:id="rId64"/>
    <p:sldId id="311" r:id="rId65"/>
    <p:sldId id="312" r:id="rId66"/>
    <p:sldId id="313" r:id="rId6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slide" Target="slides/slide34.xml"/><Relationship Id="rId44" Type="http://schemas.openxmlformats.org/officeDocument/2006/relationships/slide" Target="slides/slide35.xml"/><Relationship Id="rId45" Type="http://schemas.openxmlformats.org/officeDocument/2006/relationships/slide" Target="slides/slide36.xml"/><Relationship Id="rId46" Type="http://schemas.openxmlformats.org/officeDocument/2006/relationships/slide" Target="slides/slide37.xml"/><Relationship Id="rId47" Type="http://schemas.openxmlformats.org/officeDocument/2006/relationships/slide" Target="slides/slide38.xml"/><Relationship Id="rId48" Type="http://schemas.openxmlformats.org/officeDocument/2006/relationships/slide" Target="slides/slide39.xml"/><Relationship Id="rId49" Type="http://schemas.openxmlformats.org/officeDocument/2006/relationships/slide" Target="slides/slide40.xml"/><Relationship Id="rId50" Type="http://schemas.openxmlformats.org/officeDocument/2006/relationships/slide" Target="slides/slide41.xml"/><Relationship Id="rId51" Type="http://schemas.openxmlformats.org/officeDocument/2006/relationships/slide" Target="slides/slide42.xml"/><Relationship Id="rId52" Type="http://schemas.openxmlformats.org/officeDocument/2006/relationships/slide" Target="slides/slide43.xml"/><Relationship Id="rId53" Type="http://schemas.openxmlformats.org/officeDocument/2006/relationships/slide" Target="slides/slide44.xml"/><Relationship Id="rId54" Type="http://schemas.openxmlformats.org/officeDocument/2006/relationships/slide" Target="slides/slide45.xml"/><Relationship Id="rId55" Type="http://schemas.openxmlformats.org/officeDocument/2006/relationships/slide" Target="slides/slide46.xml"/><Relationship Id="rId56" Type="http://schemas.openxmlformats.org/officeDocument/2006/relationships/slide" Target="slides/slide47.xml"/><Relationship Id="rId57" Type="http://schemas.openxmlformats.org/officeDocument/2006/relationships/slide" Target="slides/slide48.xml"/><Relationship Id="rId58" Type="http://schemas.openxmlformats.org/officeDocument/2006/relationships/slide" Target="slides/slide49.xml"/><Relationship Id="rId59" Type="http://schemas.openxmlformats.org/officeDocument/2006/relationships/slide" Target="slides/slide50.xml"/><Relationship Id="rId60" Type="http://schemas.openxmlformats.org/officeDocument/2006/relationships/slide" Target="slides/slide51.xml"/><Relationship Id="rId61" Type="http://schemas.openxmlformats.org/officeDocument/2006/relationships/slide" Target="slides/slide52.xml"/><Relationship Id="rId62" Type="http://schemas.openxmlformats.org/officeDocument/2006/relationships/slide" Target="slides/slide53.xml"/><Relationship Id="rId63" Type="http://schemas.openxmlformats.org/officeDocument/2006/relationships/slide" Target="slides/slide54.xml"/><Relationship Id="rId64" Type="http://schemas.openxmlformats.org/officeDocument/2006/relationships/slide" Target="slides/slide55.xml"/><Relationship Id="rId65" Type="http://schemas.openxmlformats.org/officeDocument/2006/relationships/slide" Target="slides/slide56.xml"/><Relationship Id="rId66" Type="http://schemas.openxmlformats.org/officeDocument/2006/relationships/slide" Target="slides/slide57.xml"/><Relationship Id="rId67" Type="http://schemas.openxmlformats.org/officeDocument/2006/relationships/slide" Target="slides/slide58.xml"/><Relationship Id="rId6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E4EBD-9E63-4F6A-9FC3-AE22983F8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FE8D6-86CC-4EF3-83D0-009139D9D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D280F-DB66-4215-B6CA-8F40A7E03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0E40F-58D9-409D-B4D4-89838F5BD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26F45-EAEA-44AC-808C-749D8F992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57543-514E-4C9D-901D-A7E0621C4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FCB85-3C93-470E-A10C-28FFA62BC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751BD-E1D5-4871-A0C2-3476DC95E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66D51-3F69-40D2-B462-A0E99F668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BA2CD-46DF-421B-8978-FCCE161CE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1D5BD-315E-42BF-9AAA-9B1A967E8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F5A3E-A6D1-4E5D-95B2-35DFD96F0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673C1-E7E3-42C2-877D-0D29D4115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3F7E0-F9EA-4163-8CFB-B9DB2803E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A7879-BD34-4F24-A092-14322364A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8453E-1D94-4FB1-95A2-2BF55D07A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C89B7-C046-4F82-89F5-8B3C3FFEF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4879C5-A8B1-462D-BBA4-CF1ADE360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1AA9AF-D991-4169-8C01-58B88A9F6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50C846-8E04-4AD9-956A-E9173BCBE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A3C53D-5C65-480B-9B9C-F617CEB6C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699A39-4C43-4917-958A-2A6ED91A3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CAABD-E412-475A-939B-7FBE2C1A3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BD6C96-4A2A-458F-8C2A-99C0684FC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1EF38F-BDB2-4BB0-806C-0CEB3BD2E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FC82E6-F042-47CC-AFAD-9ACE24D12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E3A789-78A2-4ECF-BAFD-104F755C3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1DAB68-8485-4783-BAF4-2780356AD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8C2074-EC58-41DA-A15B-0549B757A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1169AC-8A02-47D5-AE23-13B1E1AD4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C6B03A-FB40-4F8B-8CB5-B26051CEC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BC6575-B418-46E4-B1D2-C7B5F01D2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B1ADC1-B8C4-4E25-A4FC-633F72653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981DE-7F0C-4C32-AEC5-C29E8205E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C9D99D-9153-4194-9C77-EEB3124D0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2C56BC-0A65-4BC8-9C62-4B71763FA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C301B4-746D-4954-BF81-335472D38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B3F10C-3462-4F1A-A5F3-E1FA2254B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DD0C77-6984-4B1E-A60E-D21DA5121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77C10D-CA00-429B-AD8F-6F28F326C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E76F0E-FBF5-4573-B952-C9E001139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EEDC37-E4E5-48CE-94F6-8A9257C4E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6139E5-98DC-42BF-9D8A-647ADA2BC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A8F976-7C2B-49ED-96D9-485DB156A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502BB-95C5-4FD6-B39D-E60B83610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5AB646-A6F5-47AE-ABF8-856234488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421F6A-C0B7-4112-AACF-B5024EA54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CFF6DB-6014-4BB1-BDE0-390CA7AFC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B168CD-4CC0-4F93-9D05-2F4A0D8B1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9E7709-4675-4766-9A81-70134AA32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C534BC-BF67-4B03-B834-F1DDC3E48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F911B6-1665-473F-8C7D-0EFE4428F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44DFF7-EFF0-4888-8866-E5B80C84B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54E87C-3968-4C1F-9C78-A7E215222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00679B-7483-486C-8EB5-BB82063C1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A3022-2016-41C8-A400-3911B31AE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B99AB3-0EA1-4A40-AEEE-CACE0B6B8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F0F57E-9EA2-4F44-9CE4-FE11E327D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DBB822-D45E-4B4F-8598-08B37C14D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AD0A2F-19FB-488A-BF73-3BAFB05A8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05104F-3047-4889-A121-4B198054F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AC5639-F70D-4661-92FC-72BE0F283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15ABD8-3CFB-4279-92D4-DA469100D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C817C0-9897-4CB5-A1D8-4FEF61844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325D8C-21C5-4594-81AE-551F66B8B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5541B0-0414-4AAA-B699-2FA5852F5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317E3-FBAC-4DC3-9708-6D35D169E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0B4C8C-4860-48A6-9F5A-C7EDB3A7E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FAEA7F-8568-4E13-BA4E-F77DDAF5A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6D6B0C-A57A-441F-A51C-A44F6D5CA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F3E068-AB46-468C-9241-76ECA1B1B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FC5186-D909-4715-A6D8-B6B20FE4D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6E81A7-6CA7-40C7-8F08-9A224C288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993E1F-23D6-44BC-8A96-BFA42B579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5669C6-990E-40A2-8892-BD3F3EB5F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7E6B0E-E282-4DDB-8817-20623AD5D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F12D2B-125A-4DBD-8FDA-3F7D39A58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A97D6-CB2F-45ED-AE35-ED1561259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E5E067-B14D-458D-B33D-348AF0825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8BC128-D239-4C4C-96C6-F1DB29318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38D7DD-7ADF-49CA-A36C-30DF55C61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5C53B5-5533-4201-9485-9F265E919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30CCF5-7872-4434-900D-DDE24DF99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814B9B-1CC7-43B6-9A80-4FAFA605B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B8FBDD-DA90-4C72-97B4-92F17F081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74A005-75EE-4780-8CF9-FCECF8E9A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CE0948-6DFF-45C7-B0EA-CDE4D9284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242B1D-48F8-4508-B357-79AB854EB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513F0-F965-4C7E-808E-AC30611FF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780775-DA4D-4CE1-8190-EB80A8CCA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1F577F-8E7D-4DFC-8A8D-3AE3C295B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373ADC-E730-4B89-92EF-C8706C311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048BF3-B435-40E1-AECA-652D809EB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A66B0E-545C-4F86-BBEB-CAA01450E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0F8218-B0C9-4EAB-984B-203098F68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6EC020-3F94-4858-9E80-E97945C10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未知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未知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6920"/>
              <a:chOff x="5600880" y="5897520"/>
              <a:chExt cx="1256760" cy="82692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16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20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未知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未知"/>
              <p:cNvSpPr/>
              <p:nvPr/>
            </p:nvSpPr>
            <p:spPr>
              <a:xfrm>
                <a:off x="5867280" y="661968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未知"/>
              <p:cNvSpPr/>
              <p:nvPr/>
            </p:nvSpPr>
            <p:spPr>
              <a:xfrm>
                <a:off x="5600880" y="6200640"/>
                <a:ext cx="14076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未知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未知"/>
              <p:cNvSpPr/>
              <p:nvPr/>
            </p:nvSpPr>
            <p:spPr>
              <a:xfrm>
                <a:off x="6410160" y="5906880"/>
                <a:ext cx="151920" cy="4788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240"/>
                <a:ext cx="132840" cy="8424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3960"/>
              <a:ext cx="2581200" cy="1084320"/>
              <a:chOff x="2819520" y="576396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720" y="6244920"/>
                <a:ext cx="1012680" cy="59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08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600" cy="4744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480" y="6345000"/>
                <a:ext cx="704520" cy="40968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480" y="6357600"/>
                <a:ext cx="655560" cy="38124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920" y="6391080"/>
                <a:ext cx="485640" cy="3049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840" y="643860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3760"/>
                <a:ext cx="142920" cy="954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未知"/>
              <p:cNvSpPr/>
              <p:nvPr/>
            </p:nvSpPr>
            <p:spPr>
              <a:xfrm>
                <a:off x="4103640" y="606708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未知"/>
              <p:cNvSpPr/>
              <p:nvPr/>
            </p:nvSpPr>
            <p:spPr>
              <a:xfrm>
                <a:off x="3400560" y="6114960"/>
                <a:ext cx="1415880" cy="73332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未知"/>
              <p:cNvSpPr/>
              <p:nvPr/>
            </p:nvSpPr>
            <p:spPr>
              <a:xfrm>
                <a:off x="3305160" y="6076800"/>
                <a:ext cx="646200" cy="77148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未知"/>
              <p:cNvSpPr/>
              <p:nvPr/>
            </p:nvSpPr>
            <p:spPr>
              <a:xfrm>
                <a:off x="4741920" y="641952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未知"/>
              <p:cNvSpPr/>
              <p:nvPr/>
            </p:nvSpPr>
            <p:spPr>
              <a:xfrm>
                <a:off x="3283200" y="5849640"/>
                <a:ext cx="1325520" cy="23832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未知"/>
              <p:cNvSpPr/>
              <p:nvPr/>
            </p:nvSpPr>
            <p:spPr>
              <a:xfrm>
                <a:off x="2963880" y="611640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未知"/>
              <p:cNvSpPr/>
              <p:nvPr/>
            </p:nvSpPr>
            <p:spPr>
              <a:xfrm>
                <a:off x="4684680" y="595440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未知"/>
              <p:cNvSpPr/>
              <p:nvPr/>
            </p:nvSpPr>
            <p:spPr>
              <a:xfrm>
                <a:off x="3679920" y="5763960"/>
                <a:ext cx="171144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未知"/>
              <p:cNvSpPr/>
              <p:nvPr/>
            </p:nvSpPr>
            <p:spPr>
              <a:xfrm>
                <a:off x="5245200" y="647676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未知"/>
              <p:cNvSpPr/>
              <p:nvPr/>
            </p:nvSpPr>
            <p:spPr>
              <a:xfrm>
                <a:off x="2819520" y="583056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440" y="5333760"/>
              <a:ext cx="2144160" cy="1303200"/>
              <a:chOff x="6553440" y="5333760"/>
              <a:chExt cx="2144160" cy="1303200"/>
            </a:xfrm>
          </p:grpSpPr>
          <p:sp>
            <p:nvSpPr>
              <p:cNvPr id="35" name="未知"/>
              <p:cNvSpPr/>
              <p:nvPr/>
            </p:nvSpPr>
            <p:spPr>
              <a:xfrm>
                <a:off x="6667560" y="5400360"/>
                <a:ext cx="1906200" cy="116064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未知"/>
              <p:cNvSpPr/>
              <p:nvPr/>
            </p:nvSpPr>
            <p:spPr>
              <a:xfrm>
                <a:off x="6553440" y="5343120"/>
                <a:ext cx="86328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" name="未知"/>
              <p:cNvSpPr/>
              <p:nvPr/>
            </p:nvSpPr>
            <p:spPr>
              <a:xfrm>
                <a:off x="7607160" y="5333760"/>
                <a:ext cx="96660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" name="未知"/>
              <p:cNvSpPr/>
              <p:nvPr/>
            </p:nvSpPr>
            <p:spPr>
              <a:xfrm>
                <a:off x="8327880" y="6360840"/>
                <a:ext cx="1141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未知"/>
              <p:cNvSpPr/>
              <p:nvPr/>
            </p:nvSpPr>
            <p:spPr>
              <a:xfrm>
                <a:off x="7151400" y="6465600"/>
                <a:ext cx="111888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" name="未知"/>
              <p:cNvSpPr/>
              <p:nvPr/>
            </p:nvSpPr>
            <p:spPr>
              <a:xfrm>
                <a:off x="8470800" y="5800320"/>
                <a:ext cx="22680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" name="未知"/>
              <p:cNvSpPr/>
              <p:nvPr/>
            </p:nvSpPr>
            <p:spPr>
              <a:xfrm>
                <a:off x="8034120" y="5752800"/>
                <a:ext cx="13140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" name="未知"/>
              <p:cNvSpPr/>
              <p:nvPr/>
            </p:nvSpPr>
            <p:spPr>
              <a:xfrm>
                <a:off x="7056360" y="5638680"/>
                <a:ext cx="1137960" cy="68400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" name="未知"/>
              <p:cNvSpPr/>
              <p:nvPr/>
            </p:nvSpPr>
            <p:spPr>
              <a:xfrm>
                <a:off x="6904080" y="5571720"/>
                <a:ext cx="144252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" name="未知"/>
              <p:cNvSpPr/>
              <p:nvPr/>
            </p:nvSpPr>
            <p:spPr>
              <a:xfrm>
                <a:off x="7245360" y="5543280"/>
                <a:ext cx="57888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" name="未知"/>
              <p:cNvSpPr/>
              <p:nvPr/>
            </p:nvSpPr>
            <p:spPr>
              <a:xfrm>
                <a:off x="7084800" y="5648040"/>
                <a:ext cx="104400" cy="7632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560" y="5727600"/>
                <a:ext cx="822240" cy="50616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32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080" y="5794200"/>
                <a:ext cx="612720" cy="3697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480"/>
                <a:ext cx="472680" cy="28116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160" y="5870160"/>
                <a:ext cx="35208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199800" cy="12852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2240" y="4800600"/>
              <a:ext cx="674640" cy="408960"/>
              <a:chOff x="8382240" y="4800600"/>
              <a:chExt cx="674640" cy="408960"/>
            </a:xfrm>
          </p:grpSpPr>
          <p:sp>
            <p:nvSpPr>
              <p:cNvPr id="53" name="未知"/>
              <p:cNvSpPr/>
              <p:nvPr/>
            </p:nvSpPr>
            <p:spPr>
              <a:xfrm>
                <a:off x="8382240" y="5057280"/>
                <a:ext cx="608040" cy="15228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未知"/>
              <p:cNvSpPr/>
              <p:nvPr/>
            </p:nvSpPr>
            <p:spPr>
              <a:xfrm>
                <a:off x="8437680" y="4800600"/>
                <a:ext cx="409680" cy="8532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未知"/>
              <p:cNvSpPr/>
              <p:nvPr/>
            </p:nvSpPr>
            <p:spPr>
              <a:xfrm>
                <a:off x="8961840" y="4866840"/>
                <a:ext cx="95040" cy="24732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未知"/>
              <p:cNvSpPr/>
              <p:nvPr/>
            </p:nvSpPr>
            <p:spPr>
              <a:xfrm>
                <a:off x="8533080" y="5152680"/>
                <a:ext cx="304920" cy="2808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未知"/>
              <p:cNvSpPr/>
              <p:nvPr/>
            </p:nvSpPr>
            <p:spPr>
              <a:xfrm>
                <a:off x="8420400" y="4828680"/>
                <a:ext cx="255600" cy="29520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>
                <a:off x="8714160" y="4828680"/>
                <a:ext cx="295200" cy="33300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未知"/>
              <p:cNvSpPr/>
              <p:nvPr/>
            </p:nvSpPr>
            <p:spPr>
              <a:xfrm>
                <a:off x="8485560" y="4854240"/>
                <a:ext cx="474480" cy="29484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080"/>
                <a:ext cx="360360" cy="209160"/>
                <a:chOff x="8542440" y="4897080"/>
                <a:chExt cx="360360" cy="20916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080"/>
                  <a:ext cx="360360" cy="209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040"/>
                  <a:ext cx="289080" cy="161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4880"/>
                  <a:ext cx="198720" cy="129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840" y="4960080"/>
                  <a:ext cx="115560" cy="74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BE909-EDBC-4889-A77C-5FA2BA8BCB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未知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6920"/>
              <a:chOff x="5600880" y="5897520"/>
              <a:chExt cx="1256760" cy="82692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16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20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未知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未知"/>
              <p:cNvSpPr/>
              <p:nvPr/>
            </p:nvSpPr>
            <p:spPr>
              <a:xfrm>
                <a:off x="5867280" y="661968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未知"/>
              <p:cNvSpPr/>
              <p:nvPr/>
            </p:nvSpPr>
            <p:spPr>
              <a:xfrm>
                <a:off x="5600880" y="6200640"/>
                <a:ext cx="14076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未知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未知"/>
              <p:cNvSpPr/>
              <p:nvPr/>
            </p:nvSpPr>
            <p:spPr>
              <a:xfrm>
                <a:off x="6410160" y="5906880"/>
                <a:ext cx="151920" cy="4788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240"/>
                <a:ext cx="132840" cy="8424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3960"/>
              <a:ext cx="2581200" cy="1084320"/>
              <a:chOff x="2819520" y="576396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720" y="6244920"/>
                <a:ext cx="1012680" cy="59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08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600" cy="4744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480" y="6345000"/>
                <a:ext cx="704520" cy="40968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480" y="6357600"/>
                <a:ext cx="655560" cy="38124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920" y="6391080"/>
                <a:ext cx="485640" cy="3049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840" y="643860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3760"/>
                <a:ext cx="142920" cy="954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未知"/>
              <p:cNvSpPr/>
              <p:nvPr/>
            </p:nvSpPr>
            <p:spPr>
              <a:xfrm>
                <a:off x="4103640" y="606708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未知"/>
              <p:cNvSpPr/>
              <p:nvPr/>
            </p:nvSpPr>
            <p:spPr>
              <a:xfrm>
                <a:off x="3400560" y="6114960"/>
                <a:ext cx="1415880" cy="73332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未知"/>
              <p:cNvSpPr/>
              <p:nvPr/>
            </p:nvSpPr>
            <p:spPr>
              <a:xfrm>
                <a:off x="3305160" y="6076800"/>
                <a:ext cx="646200" cy="77148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未知"/>
              <p:cNvSpPr/>
              <p:nvPr/>
            </p:nvSpPr>
            <p:spPr>
              <a:xfrm>
                <a:off x="4741920" y="641952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未知"/>
              <p:cNvSpPr/>
              <p:nvPr/>
            </p:nvSpPr>
            <p:spPr>
              <a:xfrm>
                <a:off x="3283200" y="5849640"/>
                <a:ext cx="1325520" cy="23832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未知"/>
              <p:cNvSpPr/>
              <p:nvPr/>
            </p:nvSpPr>
            <p:spPr>
              <a:xfrm>
                <a:off x="2963880" y="611640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未知"/>
              <p:cNvSpPr/>
              <p:nvPr/>
            </p:nvSpPr>
            <p:spPr>
              <a:xfrm>
                <a:off x="4684680" y="595440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未知"/>
              <p:cNvSpPr/>
              <p:nvPr/>
            </p:nvSpPr>
            <p:spPr>
              <a:xfrm>
                <a:off x="3679920" y="5763960"/>
                <a:ext cx="171144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未知"/>
              <p:cNvSpPr/>
              <p:nvPr/>
            </p:nvSpPr>
            <p:spPr>
              <a:xfrm>
                <a:off x="5245200" y="647676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未知"/>
              <p:cNvSpPr/>
              <p:nvPr/>
            </p:nvSpPr>
            <p:spPr>
              <a:xfrm>
                <a:off x="2819520" y="583056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440" y="5333760"/>
              <a:ext cx="2144160" cy="1303200"/>
              <a:chOff x="6553440" y="5333760"/>
              <a:chExt cx="2144160" cy="1303200"/>
            </a:xfrm>
          </p:grpSpPr>
          <p:sp>
            <p:nvSpPr>
              <p:cNvPr id="140" name="未知"/>
              <p:cNvSpPr/>
              <p:nvPr/>
            </p:nvSpPr>
            <p:spPr>
              <a:xfrm>
                <a:off x="6667560" y="5400360"/>
                <a:ext cx="1906200" cy="116064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未知"/>
              <p:cNvSpPr/>
              <p:nvPr/>
            </p:nvSpPr>
            <p:spPr>
              <a:xfrm>
                <a:off x="6553440" y="5343120"/>
                <a:ext cx="86328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未知"/>
              <p:cNvSpPr/>
              <p:nvPr/>
            </p:nvSpPr>
            <p:spPr>
              <a:xfrm>
                <a:off x="7607160" y="5333760"/>
                <a:ext cx="96660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未知"/>
              <p:cNvSpPr/>
              <p:nvPr/>
            </p:nvSpPr>
            <p:spPr>
              <a:xfrm>
                <a:off x="8327880" y="6360840"/>
                <a:ext cx="1141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未知"/>
              <p:cNvSpPr/>
              <p:nvPr/>
            </p:nvSpPr>
            <p:spPr>
              <a:xfrm>
                <a:off x="7151400" y="6465600"/>
                <a:ext cx="111888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未知"/>
              <p:cNvSpPr/>
              <p:nvPr/>
            </p:nvSpPr>
            <p:spPr>
              <a:xfrm>
                <a:off x="8470800" y="5800320"/>
                <a:ext cx="22680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未知"/>
              <p:cNvSpPr/>
              <p:nvPr/>
            </p:nvSpPr>
            <p:spPr>
              <a:xfrm>
                <a:off x="8034120" y="5752800"/>
                <a:ext cx="13140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未知"/>
              <p:cNvSpPr/>
              <p:nvPr/>
            </p:nvSpPr>
            <p:spPr>
              <a:xfrm>
                <a:off x="7056360" y="5638680"/>
                <a:ext cx="1137960" cy="68400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未知"/>
              <p:cNvSpPr/>
              <p:nvPr/>
            </p:nvSpPr>
            <p:spPr>
              <a:xfrm>
                <a:off x="6904080" y="5571720"/>
                <a:ext cx="144252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未知"/>
              <p:cNvSpPr/>
              <p:nvPr/>
            </p:nvSpPr>
            <p:spPr>
              <a:xfrm>
                <a:off x="7245360" y="5543280"/>
                <a:ext cx="57888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未知"/>
              <p:cNvSpPr/>
              <p:nvPr/>
            </p:nvSpPr>
            <p:spPr>
              <a:xfrm>
                <a:off x="7084800" y="5648040"/>
                <a:ext cx="104400" cy="7632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560" y="5727600"/>
                <a:ext cx="822240" cy="50616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32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080" y="5794200"/>
                <a:ext cx="612720" cy="3697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480"/>
                <a:ext cx="472680" cy="28116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160" y="5870160"/>
                <a:ext cx="35208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199800" cy="12852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2240" y="4800600"/>
              <a:ext cx="674640" cy="408960"/>
              <a:chOff x="8382240" y="4800600"/>
              <a:chExt cx="674640" cy="408960"/>
            </a:xfrm>
          </p:grpSpPr>
          <p:sp>
            <p:nvSpPr>
              <p:cNvPr id="158" name="未知"/>
              <p:cNvSpPr/>
              <p:nvPr/>
            </p:nvSpPr>
            <p:spPr>
              <a:xfrm>
                <a:off x="8382240" y="5057280"/>
                <a:ext cx="608040" cy="15228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未知"/>
              <p:cNvSpPr/>
              <p:nvPr/>
            </p:nvSpPr>
            <p:spPr>
              <a:xfrm>
                <a:off x="8437680" y="4800600"/>
                <a:ext cx="409680" cy="8532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未知"/>
              <p:cNvSpPr/>
              <p:nvPr/>
            </p:nvSpPr>
            <p:spPr>
              <a:xfrm>
                <a:off x="8961840" y="4866840"/>
                <a:ext cx="95040" cy="24732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" name="未知"/>
              <p:cNvSpPr/>
              <p:nvPr/>
            </p:nvSpPr>
            <p:spPr>
              <a:xfrm>
                <a:off x="8533080" y="5152680"/>
                <a:ext cx="304920" cy="2808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未知"/>
              <p:cNvSpPr/>
              <p:nvPr/>
            </p:nvSpPr>
            <p:spPr>
              <a:xfrm>
                <a:off x="8420400" y="4828680"/>
                <a:ext cx="255600" cy="29520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未知"/>
              <p:cNvSpPr/>
              <p:nvPr/>
            </p:nvSpPr>
            <p:spPr>
              <a:xfrm>
                <a:off x="8714160" y="4828680"/>
                <a:ext cx="295200" cy="33300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未知"/>
              <p:cNvSpPr/>
              <p:nvPr/>
            </p:nvSpPr>
            <p:spPr>
              <a:xfrm>
                <a:off x="8485560" y="4854240"/>
                <a:ext cx="474480" cy="29484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080"/>
                <a:ext cx="360360" cy="209160"/>
                <a:chOff x="8542440" y="4897080"/>
                <a:chExt cx="360360" cy="20916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080"/>
                  <a:ext cx="360360" cy="209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040"/>
                  <a:ext cx="289080" cy="161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4880"/>
                  <a:ext cx="198720" cy="129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840" y="4960080"/>
                  <a:ext cx="115560" cy="74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35B6D-968A-4320-80AE-37193A8AA5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7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F02A3-6BE7-446C-A6AE-1E8B1CADAD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dt" idx="10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89085-BB8A-4C5C-9E2F-C95EE4F1C2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2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293" name="未知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未知"/>
            <p:cNvSpPr/>
            <p:nvPr/>
          </p:nvSpPr>
          <p:spPr>
            <a:xfrm>
              <a:off x="7305480" y="6372360"/>
              <a:ext cx="1908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未知"/>
            <p:cNvSpPr/>
            <p:nvPr/>
          </p:nvSpPr>
          <p:spPr>
            <a:xfrm>
              <a:off x="7296120" y="6343920"/>
              <a:ext cx="9360" cy="2844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未知"/>
            <p:cNvSpPr/>
            <p:nvPr/>
          </p:nvSpPr>
          <p:spPr>
            <a:xfrm>
              <a:off x="8223120" y="5678640"/>
              <a:ext cx="482760" cy="117648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未知"/>
            <p:cNvSpPr/>
            <p:nvPr/>
          </p:nvSpPr>
          <p:spPr>
            <a:xfrm>
              <a:off x="7807320" y="5640480"/>
              <a:ext cx="49824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未知"/>
            <p:cNvSpPr/>
            <p:nvPr/>
          </p:nvSpPr>
          <p:spPr>
            <a:xfrm>
              <a:off x="7461000" y="5869080"/>
              <a:ext cx="43668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未知"/>
            <p:cNvSpPr/>
            <p:nvPr/>
          </p:nvSpPr>
          <p:spPr>
            <a:xfrm>
              <a:off x="7178400" y="5888160"/>
              <a:ext cx="33840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未知"/>
            <p:cNvSpPr/>
            <p:nvPr/>
          </p:nvSpPr>
          <p:spPr>
            <a:xfrm>
              <a:off x="6813360" y="6248520"/>
              <a:ext cx="26532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未知"/>
            <p:cNvSpPr/>
            <p:nvPr/>
          </p:nvSpPr>
          <p:spPr>
            <a:xfrm>
              <a:off x="6508800" y="6382080"/>
              <a:ext cx="263520" cy="47592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未知"/>
            <p:cNvSpPr/>
            <p:nvPr/>
          </p:nvSpPr>
          <p:spPr>
            <a:xfrm>
              <a:off x="6207120" y="6410520"/>
              <a:ext cx="376200" cy="44748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未知"/>
            <p:cNvSpPr/>
            <p:nvPr/>
          </p:nvSpPr>
          <p:spPr>
            <a:xfrm>
              <a:off x="5832360" y="6486840"/>
              <a:ext cx="311040" cy="37116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未知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未知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未知"/>
            <p:cNvSpPr/>
            <p:nvPr/>
          </p:nvSpPr>
          <p:spPr>
            <a:xfrm>
              <a:off x="4832280" y="6696360"/>
              <a:ext cx="141120" cy="16164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未知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68B9C-967E-49B9-9489-441C5932DD4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9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350" name="未知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未知"/>
            <p:cNvSpPr/>
            <p:nvPr/>
          </p:nvSpPr>
          <p:spPr>
            <a:xfrm>
              <a:off x="7305480" y="6372360"/>
              <a:ext cx="1908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未知"/>
            <p:cNvSpPr/>
            <p:nvPr/>
          </p:nvSpPr>
          <p:spPr>
            <a:xfrm>
              <a:off x="7296120" y="6343920"/>
              <a:ext cx="9360" cy="2844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未知"/>
            <p:cNvSpPr/>
            <p:nvPr/>
          </p:nvSpPr>
          <p:spPr>
            <a:xfrm>
              <a:off x="8223120" y="5678640"/>
              <a:ext cx="482760" cy="117648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未知"/>
            <p:cNvSpPr/>
            <p:nvPr/>
          </p:nvSpPr>
          <p:spPr>
            <a:xfrm>
              <a:off x="7807320" y="5640480"/>
              <a:ext cx="49824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未知"/>
            <p:cNvSpPr/>
            <p:nvPr/>
          </p:nvSpPr>
          <p:spPr>
            <a:xfrm>
              <a:off x="7461000" y="5869080"/>
              <a:ext cx="43668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未知"/>
            <p:cNvSpPr/>
            <p:nvPr/>
          </p:nvSpPr>
          <p:spPr>
            <a:xfrm>
              <a:off x="7178400" y="5888160"/>
              <a:ext cx="33840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未知"/>
            <p:cNvSpPr/>
            <p:nvPr/>
          </p:nvSpPr>
          <p:spPr>
            <a:xfrm>
              <a:off x="6813360" y="6248520"/>
              <a:ext cx="26532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未知"/>
            <p:cNvSpPr/>
            <p:nvPr/>
          </p:nvSpPr>
          <p:spPr>
            <a:xfrm>
              <a:off x="6508800" y="6382080"/>
              <a:ext cx="263520" cy="47592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未知"/>
            <p:cNvSpPr/>
            <p:nvPr/>
          </p:nvSpPr>
          <p:spPr>
            <a:xfrm>
              <a:off x="6207120" y="6410520"/>
              <a:ext cx="376200" cy="44748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未知"/>
            <p:cNvSpPr/>
            <p:nvPr/>
          </p:nvSpPr>
          <p:spPr>
            <a:xfrm>
              <a:off x="5832360" y="6486840"/>
              <a:ext cx="311040" cy="37116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未知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未知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未知"/>
            <p:cNvSpPr/>
            <p:nvPr/>
          </p:nvSpPr>
          <p:spPr>
            <a:xfrm>
              <a:off x="4832280" y="6696360"/>
              <a:ext cx="141120" cy="16164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未知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3874D-D845-4936-B06E-A71CEF961F5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5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406" name="未知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未知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未知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未知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未知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未知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未知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未知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未知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未知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未知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未知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未知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未知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未知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未知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C04D0-E6A5-4620-80AF-9EAE13956F6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5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466" name="未知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未知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未知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9" name="未知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0" name="未知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1" name="未知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未知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未知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未知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未知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未知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未知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未知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未知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未知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未知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DB8A7-7E5A-4940-BDDB-A50A708EDCF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0" y="1052640"/>
            <a:ext cx="91440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黑体"/>
              </a:rPr>
              <a:t>欢迎您参加</a:t>
            </a:r>
            <a:br>
              <a:rPr sz="4800"/>
            </a:br>
            <a:br>
              <a:rPr sz="4800"/>
            </a:b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黑体"/>
              </a:rPr>
              <a:t>国家普通话水平测试</a:t>
            </a:r>
            <a:endParaRPr b="0" lang="en-US" sz="4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8819640" y="6524280"/>
            <a:ext cx="73080" cy="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6280" bIns="26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med" advTm="5000">
    <p:pull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二、核对信息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0" y="1915920"/>
            <a:ext cx="88200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请仔细核对您的个人信息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如信息无误，单击“确认”按钮继续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如信息有误，请单击“返回”按钮重新登录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.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如再次登录后信息仍然有误，请告知考务人员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5000">
    <p:pull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"/>
          <p:cNvSpPr/>
          <p:nvPr/>
        </p:nvSpPr>
        <p:spPr>
          <a:xfrm>
            <a:off x="324000" y="476280"/>
            <a:ext cx="4876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二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、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核对信息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45" name="" descr=""/>
          <p:cNvPicPr/>
          <p:nvPr/>
        </p:nvPicPr>
        <p:blipFill>
          <a:blip r:embed="rId1"/>
          <a:stretch/>
        </p:blipFill>
        <p:spPr>
          <a:xfrm>
            <a:off x="1187280" y="1628640"/>
            <a:ext cx="6769440" cy="48024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ull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/>
          </p:nvPr>
        </p:nvSpPr>
        <p:spPr>
          <a:xfrm>
            <a:off x="32400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2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核对信息后，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系统会弹出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“等待考试指令”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字样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2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此时，请您稍加等待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5000">
    <p:pull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84000" y="475920"/>
            <a:ext cx="36003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ecff"/>
                </a:solidFill>
                <a:latin typeface="Arial"/>
              </a:rPr>
              <a:t>等待考试指令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724000" y="3284280"/>
            <a:ext cx="71640" cy="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6280" bIns="26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9" name="" descr=""/>
          <p:cNvPicPr/>
          <p:nvPr/>
        </p:nvPicPr>
        <p:blipFill>
          <a:blip r:embed="rId1"/>
          <a:stretch/>
        </p:blipFill>
        <p:spPr>
          <a:xfrm>
            <a:off x="1116000" y="1557360"/>
            <a:ext cx="6985080" cy="476244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ull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三、试音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896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宋体"/>
              </a:rPr>
              <a:t>1.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请在提示语结束并听到“嘟”的一声后，用正常说话的音量朗读主屏中的个人测试信息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宋体"/>
              </a:rPr>
              <a:t>2.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本系统会自动调节，以适应您的音量，您不用作任何操作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5000">
    <p:pull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-360" y="189000"/>
            <a:ext cx="3745080" cy="11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三、试音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1547640" y="1557360"/>
            <a:ext cx="6330960" cy="474804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ull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2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试音结束，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系统会弹出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“等待考试指令”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字样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2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此时，请您稍加等待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5000">
    <p:pull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33829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ecff"/>
                </a:solidFill>
                <a:latin typeface="Arial"/>
              </a:rPr>
              <a:t>等待考试指令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2195640" y="2997360"/>
            <a:ext cx="72720" cy="7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4480" bIns="244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1"/>
          <a:stretch/>
        </p:blipFill>
        <p:spPr>
          <a:xfrm>
            <a:off x="1476360" y="1711440"/>
            <a:ext cx="6405480" cy="455616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ull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1746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68360" y="477720"/>
            <a:ext cx="461952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四、  开始考试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611280" y="213372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．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普通话水平测试共有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项题目，系统会依次显示各项内容，您只需根据屏幕显示的试题内容进行录音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．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每项试题前都有一段语音提示，请在提示语结束并听到“嘟”的一声后，再开始录音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5000">
    <p:pull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1746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68000" y="357120"/>
            <a:ext cx="404316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考试时……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．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录音过程中，应做到吐字清晰，语速适中，音量同试音时保持大体一致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</a:rPr>
              <a:t>4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．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录音过程中，请注意主屏下方的时间提示，确保在规定的时间内完成每项考试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5000">
    <p:pull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29840" y="907560"/>
            <a:ext cx="87138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计算机辅助普通话水平测试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11280" y="2060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黑体"/>
                <a:ea typeface="黑体"/>
              </a:rPr>
              <a:t>应 试 指 南</a:t>
            </a:r>
            <a:endParaRPr b="0" lang="en-US" sz="54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上海市语言文字水平测试中心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med" advTm="5000">
    <p:pull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1746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68360" y="357120"/>
            <a:ext cx="418608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考试时……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6843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</a:rPr>
              <a:t>5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．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规定时间结束，系统会自动进入下一项试题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</a:rPr>
              <a:t>6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．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如某项试题时间有余，单击屏幕右下角的“下一题”按钮，可进入下一项试题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5000">
    <p:pull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1746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68360" y="549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第一项  读单音节字词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190600"/>
            <a:ext cx="8229600" cy="39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．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请在提示语结束并听到“嘟”的一声后，再开始录音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．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如该项试题时间有余，单击屏幕右下角的“下一题”按钮，可进入下一项试题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5000">
    <p:pull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5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ull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1746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14440" y="328680"/>
            <a:ext cx="7981920" cy="10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第二项  读多音节词语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．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请在提示语结束并听到“嘟”的一声后，再开始录音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．如该项试题时间有余，单击屏幕右下角的“下一题”按钮，可进入下一项试题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5000">
    <p:pull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5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074160" cy="680724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ull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1746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第三项  朗读短文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617040" y="1991880"/>
            <a:ext cx="7929720" cy="32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．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请在提示语结束并听到“嘟”的一声后，再开始录音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．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如该项试题时间有余，单击屏幕右下角的“下一题”按钮，可进入下一项试题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5000">
    <p:pull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5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ull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1746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第四项  命题说话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 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．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请在提示语结束并听到“嘟”的一声后，再开始录音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．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录音开始时，请读出所选话题名称。如：我说的话题是“我尊敬的人”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．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本题必须说满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分钟（请按主屏下方的时间提示把握时间）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5000">
    <p:pull dir="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5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5440" cy="685800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pull dir="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1746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323640" y="549360"/>
            <a:ext cx="45370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   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五、结束考试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250560" y="1773360"/>
            <a:ext cx="828180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说话结束后，系统会弹出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“恭喜您考试成功，请摘下耳机，轻轻离开考场”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字样，表示考试已结束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此时您不用进行任何操作，即可离开试场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5000">
    <p:pull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324000" y="6206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（一） 测 前 准 备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610920" y="2204640"/>
            <a:ext cx="8086680" cy="39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注意验证《准考证》信息是否有误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《准考证》应贴上规范的证件照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参加测试必须携带《身份证》和《准考证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.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按《准考证》规定的时间准时参加测试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5000">
    <p:pull dir="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3609720" cy="8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ecff"/>
                </a:solidFill>
                <a:latin typeface="Arial"/>
              </a:rPr>
              <a:t>考试结束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851280" y="3212640"/>
            <a:ext cx="71280" cy="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4840" bIns="2484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4" name="" descr=""/>
          <p:cNvPicPr/>
          <p:nvPr/>
        </p:nvPicPr>
        <p:blipFill>
          <a:blip r:embed="rId1"/>
          <a:stretch/>
        </p:blipFill>
        <p:spPr>
          <a:xfrm>
            <a:off x="1332000" y="1413000"/>
            <a:ext cx="6480000" cy="486072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ull dir="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a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3382920" cy="95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ff99"/>
                </a:solidFill>
                <a:latin typeface="黑体"/>
                <a:ea typeface="黑体"/>
              </a:rPr>
              <a:t>特别提示：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2273400"/>
            <a:ext cx="8229600" cy="33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宋体"/>
              </a:rPr>
              <a:t> 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．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考试过程中，考生不要说试卷以外的任何内容，以免影响考试成绩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宋体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．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如有疑问，请举手示意，工作人员会及时前来解答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5000">
    <p:pull dir="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0" y="1268280"/>
            <a:ext cx="9144000" cy="24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下面，将所有测试界面连续演示一遍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8769240" y="6441840"/>
            <a:ext cx="123840" cy="8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5640" bIns="3564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5000">
    <p:pull dir="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ull dir="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5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ull dir="d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3" name="" descr=""/>
          <p:cNvPicPr/>
          <p:nvPr/>
        </p:nvPicPr>
        <p:blipFill>
          <a:blip r:embed="rId1"/>
          <a:stretch/>
        </p:blipFill>
        <p:spPr>
          <a:xfrm>
            <a:off x="0" y="-2232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ull dir="d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ull dir="d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7" name="" descr=""/>
          <p:cNvPicPr/>
          <p:nvPr/>
        </p:nvPicPr>
        <p:blipFill>
          <a:blip r:embed="rId1"/>
          <a:stretch/>
        </p:blipFill>
        <p:spPr>
          <a:xfrm>
            <a:off x="0" y="5076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ull dir="d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98000" cy="68994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ull dir="d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476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ull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95280" y="8366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（二）测试流程简介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899640" y="2349000"/>
            <a:ext cx="7797960" cy="35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报到室→准备室→测试室→离开考区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5000">
    <p:pull dir="d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476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ull dir="d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476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ull dir="d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476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ull dir="d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98000" cy="68976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ull dir="d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36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黑体"/>
                <a:ea typeface="黑体"/>
              </a:rPr>
              <a:t>计算机辅助测试的几个</a:t>
            </a:r>
            <a:br>
              <a:rPr sz="5400"/>
            </a:br>
            <a:br>
              <a:rPr sz="5400"/>
            </a:br>
            <a:r>
              <a:rPr b="1" lang="zh-CN" sz="5400" spc="-1" strike="noStrike">
                <a:solidFill>
                  <a:srgbClr val="ff0000"/>
                </a:solidFill>
                <a:latin typeface="黑体"/>
                <a:ea typeface="黑体"/>
              </a:rPr>
              <a:t>注  意  事  项</a:t>
            </a:r>
            <a:endParaRPr b="0" lang="en-US" sz="5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8819640" y="6092640"/>
            <a:ext cx="73080" cy="1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4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med" advTm="5000">
    <p:pull dir="d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95280" y="620280"/>
            <a:ext cx="684072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1</a:t>
            </a:r>
            <a:r>
              <a:rPr b="1" lang="zh-CN" sz="4400" spc="-1" strike="noStrike">
                <a:solidFill>
                  <a:srgbClr val="eaeaea"/>
                </a:solidFill>
                <a:latin typeface="Arial"/>
                <a:ea typeface="楷体_GB2312"/>
              </a:rPr>
              <a:t>：我有多少时间准备？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250920" y="2133360"/>
            <a:ext cx="8267760" cy="32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ff"/>
                </a:solidFill>
                <a:latin typeface="Verdana"/>
                <a:ea typeface="楷体_GB2312"/>
              </a:rPr>
              <a:t>  </a:t>
            </a:r>
            <a:r>
              <a:rPr b="1" lang="zh-CN" sz="4000" spc="-1" strike="noStrike">
                <a:solidFill>
                  <a:srgbClr val="eaeaea"/>
                </a:solidFill>
                <a:latin typeface="Verdana"/>
                <a:ea typeface="楷体_GB2312"/>
              </a:rPr>
              <a:t>答：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Verdana"/>
                <a:ea typeface="楷体_GB2312"/>
              </a:rPr>
              <a:t>      </a:t>
            </a:r>
            <a:r>
              <a:rPr b="1" lang="zh-CN" sz="3600" spc="-1" strike="noStrike">
                <a:solidFill>
                  <a:srgbClr val="eaeaea"/>
                </a:solidFill>
                <a:latin typeface="Verdana"/>
                <a:ea typeface="楷体_GB2312"/>
              </a:rPr>
              <a:t>计算机测试同人工测试一样，会安排</a:t>
            </a:r>
            <a:r>
              <a:rPr b="1" lang="en-US" sz="3600" spc="-1" strike="noStrike">
                <a:solidFill>
                  <a:srgbClr val="eaeaea"/>
                </a:solidFill>
                <a:latin typeface="宋体"/>
              </a:rPr>
              <a:t>10</a:t>
            </a:r>
            <a:r>
              <a:rPr b="1" lang="zh-CN" sz="3600" spc="-1" strike="noStrike">
                <a:solidFill>
                  <a:srgbClr val="eaeaea"/>
                </a:solidFill>
                <a:latin typeface="Verdana"/>
                <a:ea typeface="楷体_GB2312"/>
              </a:rPr>
              <a:t>分钟左右时间让考生在准备室作测前准备。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med" advTm="5000">
    <p:pull dir="d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-360" y="277920"/>
            <a:ext cx="939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2</a:t>
            </a:r>
            <a:r>
              <a:rPr b="1" lang="zh-CN" sz="40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：为何“等待考试指令”有时时间较长？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88930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Verdana"/>
                <a:ea typeface="楷体_GB2312"/>
              </a:rPr>
              <a:t>  </a:t>
            </a:r>
            <a:r>
              <a:rPr b="1" lang="zh-CN" sz="4000" spc="-1" strike="noStrike">
                <a:solidFill>
                  <a:srgbClr val="eaeaea"/>
                </a:solidFill>
                <a:latin typeface="Verdana"/>
                <a:ea typeface="楷体_GB2312"/>
              </a:rPr>
              <a:t>答：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Verdana"/>
                <a:ea typeface="楷体_GB2312"/>
              </a:rPr>
              <a:t>      </a:t>
            </a:r>
            <a:r>
              <a:rPr b="1" lang="zh-CN" sz="3600" spc="-1" strike="noStrike">
                <a:solidFill>
                  <a:srgbClr val="eaeaea"/>
                </a:solidFill>
                <a:latin typeface="Verdana"/>
                <a:ea typeface="楷体_GB2312"/>
              </a:rPr>
              <a:t>所有的考试机是连接在同一个测试平台上的，当所有考生都完成该步骤后，才能进入下一个测试环节。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Verdana"/>
                <a:ea typeface="楷体_GB2312"/>
              </a:rPr>
              <a:t>       </a:t>
            </a:r>
            <a:r>
              <a:rPr b="1" lang="zh-CN" sz="3600" spc="-1" strike="noStrike">
                <a:solidFill>
                  <a:srgbClr val="eaeaea"/>
                </a:solidFill>
                <a:latin typeface="Verdana"/>
                <a:ea typeface="楷体_GB2312"/>
              </a:rPr>
              <a:t>因此，进入测试室后，请您立即登录测试系统，不要延误时间。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med" advTm="5000">
    <p:pull dir="d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23640" y="476280"/>
            <a:ext cx="6624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3</a:t>
            </a:r>
            <a:r>
              <a:rPr b="1" lang="zh-CN" sz="44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：我用什么样的音量？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250560" y="1773360"/>
            <a:ext cx="8569080" cy="486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Verdana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eaeaea"/>
                </a:solidFill>
                <a:latin typeface="Verdana"/>
                <a:ea typeface="楷体_GB2312"/>
              </a:rPr>
              <a:t>答：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Verdana"/>
                <a:ea typeface="楷体_GB2312"/>
              </a:rPr>
              <a:t>      </a:t>
            </a:r>
            <a:r>
              <a:rPr b="1" lang="zh-CN" sz="3200" spc="-1" strike="noStrike">
                <a:solidFill>
                  <a:srgbClr val="eaeaea"/>
                </a:solidFill>
                <a:latin typeface="Verdana"/>
                <a:ea typeface="楷体_GB2312"/>
              </a:rPr>
              <a:t>正常说话的音量</a:t>
            </a:r>
            <a:r>
              <a:rPr b="1" lang="en-US" sz="3200" spc="-1" strike="noStrike">
                <a:solidFill>
                  <a:srgbClr val="eaeaea"/>
                </a:solidFill>
                <a:latin typeface="宋体"/>
              </a:rPr>
              <a:t>:</a:t>
            </a:r>
            <a:r>
              <a:rPr b="1" lang="zh-CN" sz="3200" spc="-1" strike="noStrike">
                <a:solidFill>
                  <a:srgbClr val="eaeaea"/>
                </a:solidFill>
                <a:latin typeface="Verdana"/>
                <a:ea typeface="楷体_GB2312"/>
              </a:rPr>
              <a:t>一般两、三人之间交谈的音量。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Verdana"/>
                <a:ea typeface="楷体_GB2312"/>
              </a:rPr>
              <a:t>      </a:t>
            </a:r>
            <a:r>
              <a:rPr b="1" lang="zh-CN" sz="3200" spc="-1" strike="noStrike">
                <a:solidFill>
                  <a:srgbClr val="eaeaea"/>
                </a:solidFill>
                <a:latin typeface="Verdana"/>
                <a:ea typeface="楷体_GB2312"/>
              </a:rPr>
              <a:t>试音和考试过程音量应一致。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Verdana"/>
                <a:ea typeface="楷体_GB2312"/>
              </a:rPr>
              <a:t>   </a:t>
            </a:r>
            <a:r>
              <a:rPr b="0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提示：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     </a:t>
            </a:r>
            <a:r>
              <a:rPr b="0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常见问题是说话声音越来越小，嘀嘀咕咕的，像说悄悄话，这样可能会影响录音效果。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med" advTm="5000">
    <p:pull dir="d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250920" y="609120"/>
            <a:ext cx="640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e855b"/>
                </a:solidFill>
                <a:latin typeface="Arial"/>
                <a:ea typeface="楷体_GB2312"/>
              </a:rPr>
              <a:t>  </a:t>
            </a:r>
            <a:r>
              <a:rPr b="1" lang="en-US" sz="44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4</a:t>
            </a:r>
            <a:r>
              <a:rPr b="1" lang="zh-CN" sz="44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：什么样的语速合适？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0" y="1982880"/>
            <a:ext cx="8748720" cy="487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Verdana"/>
                <a:ea typeface="楷体_GB2312"/>
              </a:rPr>
              <a:t>  </a:t>
            </a:r>
            <a:r>
              <a:rPr b="1" lang="zh-CN" sz="4000" spc="-1" strike="noStrike">
                <a:solidFill>
                  <a:srgbClr val="eaeaea"/>
                </a:solidFill>
                <a:latin typeface="Verdana"/>
                <a:ea typeface="楷体_GB2312"/>
              </a:rPr>
              <a:t>答： 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Verdana"/>
                <a:ea typeface="楷体_GB2312"/>
              </a:rPr>
              <a:t>      </a:t>
            </a:r>
            <a:r>
              <a:rPr b="1" lang="zh-CN" sz="3600" spc="-1" strike="noStrike">
                <a:solidFill>
                  <a:srgbClr val="eaeaea"/>
                </a:solidFill>
                <a:latin typeface="Verdana"/>
                <a:ea typeface="楷体_GB2312"/>
              </a:rPr>
              <a:t>每题的时间安排都比较宽裕，测试时要做到吐字清晰完整，语速从容稳当。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宋体"/>
              </a:rPr>
              <a:t> 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  </a:t>
            </a:r>
            <a:r>
              <a:rPr b="0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提示：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     </a:t>
            </a:r>
            <a:r>
              <a:rPr b="0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常见问题是读得太快。一读快，字与字都粘在一起，每一个字都不清晰，都不完整，都容易有缺陷。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med" advTm="5000">
    <p:pull dir="d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7057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 </a:t>
            </a:r>
            <a:r>
              <a:rPr b="1" lang="en-US" sz="44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5</a:t>
            </a:r>
            <a:r>
              <a:rPr b="1" lang="zh-CN" sz="44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：如何避免漏字、漏行？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-360" y="1412640"/>
            <a:ext cx="889308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Verdana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eaeaea"/>
                </a:solidFill>
                <a:latin typeface="Verdana"/>
                <a:ea typeface="楷体_GB2312"/>
              </a:rPr>
              <a:t>答：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Verdana"/>
                <a:ea typeface="楷体_GB2312"/>
              </a:rPr>
              <a:t>      </a:t>
            </a:r>
            <a:r>
              <a:rPr b="1" lang="zh-CN" sz="3600" spc="-1" strike="noStrike">
                <a:solidFill>
                  <a:srgbClr val="eaeaea"/>
                </a:solidFill>
                <a:latin typeface="Verdana"/>
                <a:ea typeface="楷体_GB2312"/>
              </a:rPr>
              <a:t>读字、读词两项容易漏字、漏行。测试时，应看清字、词，从容地朗读，即使有不认识的字，也应揣摩着读一下。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Verdana"/>
                <a:ea typeface="楷体_GB2312"/>
              </a:rPr>
              <a:t>      </a:t>
            </a:r>
            <a:r>
              <a:rPr b="1" lang="zh-CN" sz="3600" spc="-1" strike="noStrike">
                <a:solidFill>
                  <a:srgbClr val="eaeaea"/>
                </a:solidFill>
                <a:latin typeface="Verdana"/>
                <a:ea typeface="楷体_GB2312"/>
              </a:rPr>
              <a:t>尤其在换行时，可稍放慢速度，看清后再读，不要漏行</a:t>
            </a:r>
            <a:r>
              <a:rPr b="1" lang="zh-CN" sz="3200" spc="-1" strike="noStrike">
                <a:solidFill>
                  <a:srgbClr val="eaeaea"/>
                </a:solidFill>
                <a:latin typeface="Verdana"/>
                <a:ea typeface="楷体_GB2312"/>
              </a:rPr>
              <a:t>。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lnSpc>
                <a:spcPct val="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    </a:t>
            </a:r>
            <a:r>
              <a:rPr b="0" lang="en-US" sz="14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  <a:ea typeface="楷体_GB2312"/>
              </a:rPr>
              <a:t>   </a:t>
            </a:r>
            <a:r>
              <a:rPr b="0" lang="zh-CN" sz="2800" spc="-1" strike="noStrike">
                <a:solidFill>
                  <a:srgbClr val="ffff00"/>
                </a:solidFill>
                <a:latin typeface="Verdana"/>
                <a:ea typeface="楷体_GB2312"/>
              </a:rPr>
              <a:t>提示：      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Verdana"/>
                <a:ea typeface="楷体_GB2312"/>
              </a:rPr>
              <a:t>         </a:t>
            </a:r>
            <a:r>
              <a:rPr b="0" lang="zh-CN" sz="2800" spc="-1" strike="noStrike">
                <a:solidFill>
                  <a:srgbClr val="ffff00"/>
                </a:solidFill>
                <a:latin typeface="Verdana"/>
                <a:ea typeface="楷体_GB2312"/>
              </a:rPr>
              <a:t>测试时，前三项如果有“漏读”现象是要按字扣分的，所以要注意避免漏读。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med" advTm="5000">
    <p:pull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324000" y="476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（三）应 试 注 意 事 项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0" y="1773360"/>
            <a:ext cx="8820000" cy="42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测试时做到音量适中，吐字清晰，语速恰当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不说同测试无关的内容，有问题请举手示意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按规定程序操作计算机，不进行违规操作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.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注意维护考场秩序，杜绝作弊行为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5000">
    <p:pull dir="d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64087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6</a:t>
            </a:r>
            <a:r>
              <a:rPr b="1" lang="zh-CN" sz="44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：发现读错能重读吗？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0" y="1484280"/>
            <a:ext cx="88200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Verdana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eaeaea"/>
                </a:solidFill>
                <a:latin typeface="Verdana"/>
                <a:ea typeface="楷体_GB2312"/>
              </a:rPr>
              <a:t>答：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Verdana"/>
                <a:ea typeface="楷体_GB2312"/>
              </a:rPr>
              <a:t>        </a:t>
            </a:r>
            <a:r>
              <a:rPr b="1" lang="zh-CN" sz="3600" spc="-1" strike="noStrike">
                <a:solidFill>
                  <a:srgbClr val="eaeaea"/>
                </a:solidFill>
                <a:latin typeface="Verdana"/>
                <a:ea typeface="楷体_GB2312"/>
              </a:rPr>
              <a:t>第一项和第二项如果有个别字词读错后重复读一遍，计算机系统会自动进行识别，不会因为一个字的重读而影响整体评分。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Verdana"/>
                <a:ea typeface="楷体_GB2312"/>
              </a:rPr>
              <a:t>        </a:t>
            </a:r>
            <a:r>
              <a:rPr b="1" lang="zh-CN" sz="3600" spc="-1" strike="noStrike">
                <a:solidFill>
                  <a:srgbClr val="eaeaea"/>
                </a:solidFill>
                <a:latin typeface="Verdana"/>
                <a:ea typeface="楷体_GB2312"/>
              </a:rPr>
              <a:t>但不要每个字、词都重复读。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Verdana"/>
                <a:ea typeface="楷体_GB2312"/>
              </a:rPr>
              <a:t>   </a:t>
            </a:r>
            <a:r>
              <a:rPr b="0" lang="zh-CN" sz="2800" spc="-1" strike="noStrike">
                <a:solidFill>
                  <a:srgbClr val="ffff00"/>
                </a:solidFill>
                <a:latin typeface="Verdana"/>
                <a:ea typeface="楷体_GB2312"/>
              </a:rPr>
              <a:t>提示：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  <a:ea typeface="楷体_GB2312"/>
              </a:rPr>
              <a:t>         </a:t>
            </a:r>
            <a:r>
              <a:rPr b="0" lang="zh-CN" sz="2800" spc="-1" strike="noStrike">
                <a:solidFill>
                  <a:srgbClr val="ffff00"/>
                </a:solidFill>
                <a:latin typeface="Verdana"/>
                <a:ea typeface="楷体_GB2312"/>
              </a:rPr>
              <a:t>考试时沉着冷静，尽量避免错读。</a:t>
            </a:r>
            <a:r>
              <a:rPr b="0" lang="en-US" sz="3600" spc="-1" strike="noStrike">
                <a:solidFill>
                  <a:srgbClr val="5e855b"/>
                </a:solidFill>
                <a:latin typeface="Verdana"/>
                <a:ea typeface="楷体_GB2312"/>
              </a:rPr>
              <a:t> 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med" advTm="5000">
    <p:pull dir="d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/>
          </p:nvPr>
        </p:nvSpPr>
        <p:spPr>
          <a:xfrm>
            <a:off x="324000" y="765000"/>
            <a:ext cx="8145360" cy="532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  </a:t>
            </a:r>
            <a:r>
              <a:rPr b="1" lang="en-US" sz="44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7</a:t>
            </a:r>
            <a:r>
              <a:rPr b="1" lang="zh-CN" sz="44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：缺乏对象感怎么办？</a:t>
            </a: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  </a:t>
            </a:r>
            <a:r>
              <a:rPr b="1" lang="zh-CN" sz="40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答：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     </a:t>
            </a:r>
            <a:r>
              <a:rPr b="1" lang="zh-CN" sz="36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调整心态和测试状态，想象着自己是面对着朋友、同伴在说话</a:t>
            </a:r>
            <a:r>
              <a:rPr b="0" lang="zh-CN" sz="40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。</a:t>
            </a:r>
            <a:r>
              <a:rPr b="0" lang="en-US" sz="54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5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med" advTm="5000">
    <p:pull dir="d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51912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8</a:t>
            </a:r>
            <a:r>
              <a:rPr b="1" lang="zh-CN" sz="44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：怎样把握时间</a:t>
            </a:r>
            <a:r>
              <a:rPr b="1" lang="zh-CN" sz="4400" spc="-1" strike="noStrike">
                <a:solidFill>
                  <a:srgbClr val="eaeaea"/>
                </a:solidFill>
                <a:latin typeface="Arial"/>
                <a:ea typeface="楷体_GB2312"/>
              </a:rPr>
              <a:t>？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-360" y="1412640"/>
            <a:ext cx="8675640" cy="52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Verdana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eaeaea"/>
                </a:solidFill>
                <a:latin typeface="Verdana"/>
                <a:ea typeface="楷体_GB2312"/>
              </a:rPr>
              <a:t>答：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Verdana"/>
                <a:ea typeface="楷体_GB2312"/>
              </a:rPr>
              <a:t>       </a:t>
            </a:r>
            <a:r>
              <a:rPr b="1" lang="zh-CN" sz="3600" spc="-1" strike="noStrike">
                <a:solidFill>
                  <a:srgbClr val="eaeaea"/>
                </a:solidFill>
                <a:latin typeface="Verdana"/>
                <a:ea typeface="楷体_GB2312"/>
              </a:rPr>
              <a:t>每道题目的下方都有时间滚动条，你能清晰地了解每题的用时。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Verdana"/>
                <a:ea typeface="楷体_GB2312"/>
              </a:rPr>
              <a:t>       </a:t>
            </a:r>
            <a:r>
              <a:rPr b="1" lang="zh-CN" sz="3600" spc="-1" strike="noStrike">
                <a:solidFill>
                  <a:srgbClr val="eaeaea"/>
                </a:solidFill>
                <a:latin typeface="Verdana"/>
                <a:ea typeface="楷体_GB2312"/>
              </a:rPr>
              <a:t>前三项的时间很充裕，每项读完通常都会有时间多余，可以点击右下方的“下一题”按钮，系统便会进入下一题测试。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Verdana"/>
                <a:ea typeface="楷体_GB2312"/>
              </a:rPr>
              <a:t>       </a:t>
            </a:r>
            <a:r>
              <a:rPr b="1" lang="zh-CN" sz="3600" spc="-1" strike="noStrike">
                <a:solidFill>
                  <a:srgbClr val="eaeaea"/>
                </a:solidFill>
                <a:latin typeface="Verdana"/>
                <a:ea typeface="楷体_GB2312"/>
              </a:rPr>
              <a:t>说话项</a:t>
            </a:r>
            <a:r>
              <a:rPr b="1" lang="zh-CN" sz="36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也要注意时间滚动条，因为这一项一定要说满三分钟。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med" advTm="5000">
    <p:pull dir="d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62024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9</a:t>
            </a:r>
            <a:r>
              <a:rPr b="0" lang="zh-CN" sz="44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、说话项能背稿子吗？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179280" y="1628280"/>
            <a:ext cx="8748720" cy="46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 </a:t>
            </a:r>
            <a:r>
              <a:rPr b="0" lang="zh-CN" sz="40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答：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     </a:t>
            </a:r>
            <a:r>
              <a:rPr b="1" lang="zh-CN" sz="36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说话的</a:t>
            </a:r>
            <a:r>
              <a:rPr b="1" lang="en-US" sz="36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30</a:t>
            </a:r>
            <a:r>
              <a:rPr b="1" lang="zh-CN" sz="36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个题目应事先作充分准备，考试时应按题目要求讲述。</a:t>
            </a: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说话项由测试员根据录音评判，</a:t>
            </a:r>
            <a:r>
              <a:rPr b="1" lang="zh-CN" sz="36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如有背稿子、离题、不断重复、缺时等现象，都会被扣分。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med" advTm="5000">
    <p:pull dir="d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10</a:t>
            </a:r>
            <a:r>
              <a:rPr b="1" lang="zh-CN" sz="44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：周围噪音会影响我的成绩吗？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-360" y="1773360"/>
            <a:ext cx="8893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e855b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答：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不会！</a:t>
            </a:r>
            <a:r>
              <a:rPr b="1" lang="zh-CN" sz="40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各个机位有一定的距离</a:t>
            </a:r>
            <a:r>
              <a:rPr b="1" lang="en-US" sz="40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为保证录音效果，测试选用的话筒能屏蔽别处的声音。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lnSpc>
                <a:spcPct val="7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Verdana"/>
                <a:ea typeface="楷体_GB2312"/>
              </a:rPr>
              <a:t>  </a:t>
            </a:r>
            <a:r>
              <a:rPr b="0" lang="zh-CN" sz="2800" spc="-1" strike="noStrike">
                <a:solidFill>
                  <a:srgbClr val="ffff00"/>
                </a:solidFill>
                <a:latin typeface="Verdana"/>
                <a:ea typeface="楷体_GB2312"/>
              </a:rPr>
              <a:t>提示：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Verdana"/>
                <a:ea typeface="楷体_GB2312"/>
              </a:rPr>
              <a:t>        </a:t>
            </a:r>
            <a:r>
              <a:rPr b="0" lang="zh-CN" sz="2800" spc="-1" strike="noStrike">
                <a:solidFill>
                  <a:srgbClr val="ffff00"/>
                </a:solidFill>
                <a:latin typeface="Verdana"/>
                <a:ea typeface="楷体_GB2312"/>
              </a:rPr>
              <a:t>专注于自己的考试，不要刻意去听别人的声音，以免影响自己的发挥。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med" advTm="5000">
    <p:pull dir="d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39640" y="476280"/>
            <a:ext cx="75247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11</a:t>
            </a:r>
            <a:r>
              <a:rPr b="1" lang="zh-CN" sz="44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：考场上遇到问题怎么办？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250920" y="1844280"/>
            <a:ext cx="862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e855b"/>
                </a:solidFill>
                <a:latin typeface="Verdana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答：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测试前应尽量解决所有操作上的疑问，测试时不要说同测试内容无关的话。如遇问题，应举手示意，由考务人员前来处理。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med" advTm="5000">
    <p:pull dir="d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507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12</a:t>
            </a:r>
            <a:r>
              <a:rPr b="1" lang="zh-CN" sz="40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：测试用计算机可以任意操作吗？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250560" y="1844280"/>
            <a:ext cx="85690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答：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测试时，应按规定程序操作计算机。不要随意操作计算机，不要按动同测试操作无关的其它按钮，也不要拉扯各种连接线，以防出现影响录音的情况。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med" advTm="5000">
    <p:pull dir="d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179280" y="476280"/>
            <a:ext cx="87854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13</a:t>
            </a:r>
            <a:r>
              <a:rPr b="1" lang="zh-CN" sz="44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：考试后《准考证》要上交吗？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179280" y="2060640"/>
            <a:ext cx="874872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答：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      </a:t>
            </a:r>
            <a:r>
              <a:rPr b="1" lang="zh-CN" sz="36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录入准考证号并核对个人信息后，请将《准考证》置于靠走道的考试桌桌上角，以便考务人员收取（《准考证》上的照片要用来制作证书）。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med" advTm="5000">
    <p:pull dir="d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/>
          </p:nvPr>
        </p:nvSpPr>
        <p:spPr>
          <a:xfrm>
            <a:off x="0" y="1988640"/>
            <a:ext cx="9144000" cy="12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Times New Roman"/>
              </a:rPr>
              <a:t>祝您顺利通过普通话水平测试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5000">
    <p:pull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（四）应  试  实  测  程  序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0" y="2060640"/>
            <a:ext cx="914400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3200" spc="-1" strike="noStrike">
                <a:solidFill>
                  <a:srgbClr val="ffffff"/>
                </a:solidFill>
                <a:latin typeface="宋体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由考务人员引导进入计算机测试室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按编号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就座后戴上耳机（麦克风戴在左耳），并将话筒置于口腔前方偏下位置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点击“下一步”按钮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进入机测程序。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5000">
    <p:pull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31780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登录准备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537" name="" descr=""/>
          <p:cNvPicPr/>
          <p:nvPr/>
        </p:nvPicPr>
        <p:blipFill>
          <a:blip r:embed="rId1"/>
          <a:stretch/>
        </p:blipFill>
        <p:spPr>
          <a:xfrm>
            <a:off x="1835280" y="1628640"/>
            <a:ext cx="5616360" cy="417672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ull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一、考生登录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8532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．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输入您的准考证号的后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位数字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．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单击“进入”按钮继续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．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如果输入有误，单击“修改”按钮重新输入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5000">
    <p:pull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"/>
          <p:cNvSpPr/>
          <p:nvPr/>
        </p:nvSpPr>
        <p:spPr>
          <a:xfrm>
            <a:off x="380880" y="457200"/>
            <a:ext cx="685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一、考生登录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41" name="" descr=""/>
          <p:cNvPicPr/>
          <p:nvPr/>
        </p:nvPicPr>
        <p:blipFill>
          <a:blip r:embed="rId1"/>
          <a:stretch/>
        </p:blipFill>
        <p:spPr>
          <a:xfrm>
            <a:off x="1547640" y="1628640"/>
            <a:ext cx="6193080" cy="464976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ull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1T08:27:14Z</dcterms:created>
  <dc:creator>TingSHINN</dc:creator>
  <dc:description/>
  <dc:language>en-US</dc:language>
  <cp:lastModifiedBy>hp</cp:lastModifiedBy>
  <cp:lastPrinted>1899-12-30T00:00:00Z</cp:lastPrinted>
  <dcterms:modified xsi:type="dcterms:W3CDTF">2009-04-10T04:21:33Z</dcterms:modified>
  <cp:revision>88</cp:revision>
  <dc:subject/>
  <dc:title>PowerPoint 演示文稿</dc:title>
</cp:coreProperties>
</file>